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3FE1-E0EF-429C-9AE3-D4D4E9FAD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34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093920"/>
            <a:ext cx="8534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C053-D78E-492E-8E01-B4A07B8A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4164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904760"/>
            <a:ext cx="4164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093920"/>
            <a:ext cx="4164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4093920"/>
            <a:ext cx="4164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E79F-5D4B-45A1-B45A-F5C260312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274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904760"/>
            <a:ext cx="274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904760"/>
            <a:ext cx="274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093920"/>
            <a:ext cx="274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4093920"/>
            <a:ext cx="274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4093920"/>
            <a:ext cx="274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3823-CC41-4B65-BF3B-7E1B34594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0642-5587-43E4-AA3D-26F41EA3F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1904760"/>
            <a:ext cx="85341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335B-CA4C-43F5-8888-F6FA9AAC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34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0781-23D1-42A3-9781-A5775679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4164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7840" y="1904760"/>
            <a:ext cx="4164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D861-7C72-4CA4-B2BF-1037F4C8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D373-806D-410C-BF6F-25BC25FC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6104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56F1-F5F1-4EA3-836F-A2ADD2AC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4164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7840" y="1904760"/>
            <a:ext cx="4164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4920" y="4093920"/>
            <a:ext cx="4164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46810-CE56-4FE4-964D-6D81B93F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904760"/>
            <a:ext cx="85341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3679-0969-43F9-B2BB-1F272E70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4164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7840" y="1904760"/>
            <a:ext cx="4164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7840" y="4093920"/>
            <a:ext cx="4164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BE67-DB1E-4E0D-94DF-DCBBCA52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4164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7840" y="1904760"/>
            <a:ext cx="4164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4920" y="4093920"/>
            <a:ext cx="8534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ECFE-391D-47A7-A166-11589E88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34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4920" y="4093920"/>
            <a:ext cx="8534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F4F18-29EF-4AC5-99A2-534167AF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4164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7840" y="1904760"/>
            <a:ext cx="4164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4093920"/>
            <a:ext cx="4164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7840" y="4093920"/>
            <a:ext cx="4164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28697-51EA-4D0D-AE5F-3FD2AEF40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274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90680" y="1904760"/>
            <a:ext cx="274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6080" y="1904760"/>
            <a:ext cx="274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4920" y="4093920"/>
            <a:ext cx="274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90680" y="4093920"/>
            <a:ext cx="274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6080" y="4093920"/>
            <a:ext cx="274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5B69-988C-4152-AB37-F77F4700A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34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E0D8-1773-41D0-AE41-14363726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4164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904760"/>
            <a:ext cx="4164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A50C-BA8A-4050-8838-41D5189B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2B33-9028-4208-8035-D6C8DEAB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6104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95D5-7D40-4AAB-B517-918079F4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4164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904760"/>
            <a:ext cx="4164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093920"/>
            <a:ext cx="4164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0118-5456-4A32-80FB-DC758C12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4164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904760"/>
            <a:ext cx="4164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4093920"/>
            <a:ext cx="4164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0CC1-6EE3-4A46-9D25-C3BF5E24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4164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904760"/>
            <a:ext cx="4164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093920"/>
            <a:ext cx="8534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F760-5B71-4EAE-9F1B-E00E7846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04760"/>
            <a:ext cx="8534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02F9-0758-42FA-81BD-EBF9C1AA48C5}" type="slidenum"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E:\CLIPART\EN00005_.WMF"/>
          <p:cNvPicPr/>
          <p:nvPr/>
        </p:nvPicPr>
        <p:blipFill>
          <a:blip r:embed="rId2"/>
          <a:stretch/>
        </p:blipFill>
        <p:spPr>
          <a:xfrm>
            <a:off x="-457200" y="5486400"/>
            <a:ext cx="9906120" cy="1784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1" descr="E:\CLIPART\EN00005_.WMF"/>
          <p:cNvPicPr/>
          <p:nvPr/>
        </p:nvPicPr>
        <p:blipFill>
          <a:blip r:embed="rId2"/>
          <a:stretch/>
        </p:blipFill>
        <p:spPr>
          <a:xfrm>
            <a:off x="-457200" y="5334120"/>
            <a:ext cx="9906120" cy="1784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1904760"/>
            <a:ext cx="8534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9784-298A-4F0D-BBBF-04C80CB2E2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13840" y="785880"/>
            <a:ext cx="500076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Hay un comedor en mi cas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Estáis en el jardí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Mi tío Ramón, está en el saló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Mi tía Angelina está en la cocin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¿Dónde están mis primo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No lo sé, ¡ni idea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Mis padres están en el desván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Y mi abuela en la azote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5" name="Picture 2" descr="C:\Program Files\Microsoft Office\MEDIA\CAGCAT10\j0185604.wmf"/>
          <p:cNvPicPr/>
          <p:nvPr/>
        </p:nvPicPr>
        <p:blipFill>
          <a:blip r:embed="rId1"/>
          <a:stretch/>
        </p:blipFill>
        <p:spPr>
          <a:xfrm>
            <a:off x="6769080" y="571680"/>
            <a:ext cx="1030320" cy="16779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356760" y="214200"/>
            <a:ext cx="30085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aeaea"/>
                </a:solidFill>
                <a:latin typeface="Times New Roman"/>
              </a:rPr>
              <a:t>Mi Casa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574800" y="272520"/>
            <a:ext cx="5111640" cy="5853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C:\Documents and Settings\Teacher\Local Settings\Temporary Internet Files\Content.IE5\9F00BVRR\MPj04327900000[1].jpg"/>
          <p:cNvPicPr/>
          <p:nvPr/>
        </p:nvPicPr>
        <p:blipFill>
          <a:blip r:embed="rId3"/>
          <a:stretch/>
        </p:blipFill>
        <p:spPr>
          <a:xfrm>
            <a:off x="5162400" y="3859200"/>
            <a:ext cx="398160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60800"/>
            <a:ext cx="3008160" cy="117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51480" bIns="51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Tune: I’m forever blowing bubbl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Practises  parts of verb ESTA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Family and rooms in a hou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Transferable language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Dónde está(n) and no lo sé /ni ide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There’s a dining room in my hous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You (lot) are in the garden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My uncle Ramón is in the living room,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My aunt Angelina is in the kitchen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Where are my cousins?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I don’t know, no idea!/not a clue!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My parents are in the attic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And my granny on the roof terrace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20:00:35Z</dcterms:created>
  <dc:creator>Teacher</dc:creator>
  <dc:description/>
  <dc:language>en-US</dc:language>
  <cp:lastModifiedBy>Teacher</cp:lastModifiedBy>
  <dcterms:modified xsi:type="dcterms:W3CDTF">2010-02-19T20:02:33Z</dcterms:modified>
  <cp:revision>1</cp:revision>
  <dc:subject/>
  <dc:title>Mi Casa</dc:title>
</cp:coreProperties>
</file>